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14F-830A-4C41-8E87-32EBFF15F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E9C-7630-4379-BC4B-3427E5A9A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l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 teachers about bring an EDI lesson with clear objectives and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i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have a note pad for each table in addition to othe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e example and n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7307-A165-4196-8EE7-598E7F7C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ob alik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F57F-7094-4885-9FF2-34B56369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FBD-E5F1-4FB3-A154-47689539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should not talk through the components of the model (Boring). Have the staff conduct a  table talk about the main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“At your table, define and give examples of each of the component.” Do an informal sharing and relate to what presenter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mponents in direct instruction phase, not a check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is performed throughout to verify students have learned what was taught while it was being ta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 – must be done before Jan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8B0A-B675-416F-9B67-4F85EFF3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2012-3F0A-44E1-B584-E19BB048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vision - What is good te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rhythm - common sets of best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individualism  at the same time, reduce variance to ensure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FE6-131C-4E20-9355-90DE2364B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vity to bring the team together – K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D1E-4AF0-4B99-8D74-1D1AD27F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1CF-7772-4F56-B33B-6BD7BD84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eacher will bring a lesson with EDI framework and clear learning tar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to model to make the direction very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B22-77F5-427B-B1A0-401AC50CD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2111-7BC5-478C-86E1-9B8D7481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U - Pair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Quadrant A, B, C and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is in Quadrant A.  Throughout the workshop, we will ask participants to connect learning to scenarios in model lessons, which is quadrant B or C.  Our goal, however, is that all teachers will be able to implement them in the authentic settings and reflect their use with mentors and administrators.  This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 when the iceberg model is used, we should relate to Quadrant A- D again.  Tip of iceberg is Quadrant A, but the deeper side of our learning is quadrant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5849-0A11-469C-81D4-E7D6BDA23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n’t have time, should we change this to pair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81E5-717E-4C8C-9868-1899F621D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EE8-4467-43D1-B6EB-46714780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0ED-F910-4160-8213-CFEEE23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FE6-2A25-415C-AD25-AFB4596E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574-5A40-4B88-B646-8FA5AA76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738-5096-4CEC-A629-D0C4197D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7F1-0291-4C4C-8BE1-CD74566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811F-97E3-49CA-B793-EC0FFBC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41C6-C390-42D8-B024-FB979C46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0B83-AB73-44F0-B2EB-36BAA290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BF25-7E59-4E85-9ECD-46E8EF3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0B65-A035-4792-9D52-2C9C814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709-1A23-40BD-87C7-9C59C0CA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9B1F-16FC-4E88-9ED3-8FE8265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46B-99C4-4D4B-A19B-86D9B00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CFA8-06EA-4CAD-BC52-3CEC749B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C876-3548-4AB2-9DEB-F73FA96B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7B0-0034-4CF4-98B3-4BD940AC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72A7-B018-4B41-ABF3-EBD52871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9684-AC72-4007-B29F-3743801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9D27-31B3-47D5-B604-18356AB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1B79-4F38-4722-B910-5199839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2A2B-27F6-476A-956C-7D792BB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9FB-6DDE-4B10-AB55-3504086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B9CE-2E81-498A-8C12-455687B4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7DE6-6EEB-41FF-9203-326313B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A33B-F1C0-4D05-BF95-4C78566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93B5-7292-40C4-B148-6192312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46AF-8FF0-4C67-BC09-B127657F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2530-B3E8-4C40-8C59-DE929DC4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DFA9-CD18-41D2-BB96-6A963E0B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C7E8E-4104-4E9F-A32C-372AB9AF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0B12-3F80-45FF-B337-258F586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6CA3-FE1B-4551-95F3-D68D363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401-8033-45E8-BD30-1AAFFFFB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19B4-024A-4EEF-AD0A-AD3DC72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97A7-49FA-4290-82D5-26A01300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0D94-F683-4E92-800B-8B447A24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1D31-DC23-46E7-A634-173CEEC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9344-5648-4CAB-827B-75B269C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B1EE-FCAD-44ED-BCDC-7A18824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980F-27BE-4DB4-AB59-39A7528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EAEA-9F0A-4197-AC11-386B7941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81BE-05C5-4F10-82FA-8A8F4332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FA3-12FD-48BC-966A-49D43E5F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D75-ADEE-4CED-94EB-F338078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401-284B-46D3-B382-667EE56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561-D5AD-4950-954E-1D193DF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0A8-8340-4A7A-92EC-082B4EE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151-7620-4CE6-9521-6AAFF5E68082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75E3-ED1C-4278-B003-57A186A5BC4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BBB-605C-400E-A664-BC052C887153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FD9F-CE88-4C7E-A76F-7F4E4161909A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55640" y="1444680"/>
            <a:ext cx="8217000" cy="1841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3352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w Teacher Learning Se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tober 30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Expand Skill Statements to Scaffold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C:\Users\ychen\AppData\Local\Microsoft\Windows\Temporary Internet Files\Content.IE5\TGIQTVR5\MCj0295859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52941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Guided Practic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should be no bigger than 4 per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a facilitator, a recorder and a reporter. (If only two, share the ro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and the skill statements to scaffol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 the learning target in mi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k about where your students 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ways push to the highest level of cognitive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ublic Shar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both non-expanded and expan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 a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2"/>
          <p:cNvSpPr/>
          <p:nvPr/>
        </p:nvSpPr>
        <p:spPr>
          <a:xfrm>
            <a:off x="990720" y="380880"/>
            <a:ext cx="6933960" cy="61722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828800" y="1143000"/>
            <a:ext cx="5334120" cy="4648320"/>
            <a:chOff x="1828800" y="1143000"/>
            <a:chExt cx="5334120" cy="4648320"/>
          </a:xfrm>
        </p:grpSpPr>
        <p:sp>
          <p:nvSpPr>
            <p:cNvPr id="235" name="Oval 4"/>
            <p:cNvSpPr/>
            <p:nvPr/>
          </p:nvSpPr>
          <p:spPr>
            <a:xfrm>
              <a:off x="1828800" y="1143000"/>
              <a:ext cx="5334120" cy="46483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5"/>
            <p:cNvSpPr/>
            <p:nvPr/>
          </p:nvSpPr>
          <p:spPr>
            <a:xfrm>
              <a:off x="4952880" y="17524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Obj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"/>
            <p:cNvSpPr/>
            <p:nvPr/>
          </p:nvSpPr>
          <p:spPr>
            <a:xfrm>
              <a:off x="5867280" y="25146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review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867280" y="3581280"/>
              <a:ext cx="1295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Expla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Mode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91919"/>
                  </a:solidFill>
                  <a:latin typeface="Times New Roman"/>
                </a:rPr>
                <a:t>Demons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4952880" y="472428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Guided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3733920" y="49528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0"/>
            <p:cNvSpPr/>
            <p:nvPr/>
          </p:nvSpPr>
          <p:spPr>
            <a:xfrm>
              <a:off x="3048120" y="1752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Mast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1"/>
            <p:cNvSpPr/>
            <p:nvPr/>
          </p:nvSpPr>
          <p:spPr>
            <a:xfrm>
              <a:off x="2438280" y="22860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Periodic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2209680" y="3352680"/>
              <a:ext cx="838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Daily su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2209680" y="4191120"/>
              <a:ext cx="129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91919"/>
                  </a:solidFill>
                  <a:latin typeface="Times New Roman"/>
                </a:rPr>
                <a:t>Independent pract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3048120" y="2209680"/>
            <a:ext cx="2895480" cy="259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udents know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do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 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instr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WordArt 15"/>
          <p:cNvSpPr txBox="1"/>
          <p:nvPr/>
        </p:nvSpPr>
        <p:spPr>
          <a:xfrm rot="4286400">
            <a:off x="2017800" y="840240"/>
            <a:ext cx="5426280" cy="528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9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active - CFU, Effective feedback, cues and prompt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6"/>
          <p:cNvSpPr txBox="1"/>
          <p:nvPr/>
        </p:nvSpPr>
        <p:spPr>
          <a:xfrm rot="16610400">
            <a:off x="699840" y="1966320"/>
            <a:ext cx="446724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active - Effective feed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Line 17"/>
          <p:cNvSpPr/>
          <p:nvPr/>
        </p:nvSpPr>
        <p:spPr>
          <a:xfrm flipV="1">
            <a:off x="4419720" y="380520"/>
            <a:ext cx="0" cy="175284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 flipH="1">
            <a:off x="2743200" y="4572000"/>
            <a:ext cx="990720" cy="1523880"/>
          </a:xfrm>
          <a:prstGeom prst="line">
            <a:avLst/>
          </a:prstGeom>
          <a:ln w="284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7391520" y="5508720"/>
            <a:ext cx="1752480" cy="1631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Demo Less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rd observation on the EDI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y special attentio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 to “UBD” and “clear learning target” resear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idence of scaffolding toward the culminat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ed CFU/Assessment strategies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Users\ychen\AppData\Local\Microsoft\Windows\Temporary Internet Files\Content.IE5\692I7KWA\MPj04385850000[1].jpg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36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Synthesize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representation that  includes previous and today’s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B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r target/Learning objec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and deci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and skills/Scaffo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FU/V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Reciprocity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expanded skill statements in map units and in lesson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bed previous learning including EDI, CFU and LO with clear targets in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serve from Learning Labs with purposeful refl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tor/partner and principal co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CCSD</a:t>
            </a:r>
            <a:br>
              <a:rPr sz="4500"/>
            </a:b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Mentor/Induction System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61" name="Picture 5" descr="LRO040"/>
          <p:cNvPicPr/>
          <p:nvPr/>
        </p:nvPicPr>
        <p:blipFill>
          <a:blip r:embed="rId1"/>
          <a:stretch/>
        </p:blipFill>
        <p:spPr>
          <a:xfrm>
            <a:off x="3097080" y="1828800"/>
            <a:ext cx="3264120" cy="3657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6553080" y="2362320"/>
            <a:ext cx="175284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85800" y="2438280"/>
            <a:ext cx="2286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809880" y="5638680"/>
            <a:ext cx="16002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762120" y="4114800"/>
            <a:ext cx="190476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acher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553080" y="4114800"/>
            <a:ext cx="190512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Work with your principal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next workshop - Be prepared to bring a designed unit (map) and a lesson using the unit/lesson design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UBD/EDI concept reflected in plan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panded skill statements in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lear learning objectives/targets in lesson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lanned CFU before, during and after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ommon Bond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the social activity that Karla will design. I will fill it later once I know the activ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4"/>
          <p:cNvSpPr/>
          <p:nvPr/>
        </p:nvSpPr>
        <p:spPr>
          <a:xfrm>
            <a:off x="1752480" y="762120"/>
            <a:ext cx="5727960" cy="5244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9528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057400" y="4343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ic, purposeful, integrated, thoughtful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ext New Teacher Learning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mber 7 on a PL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-6: 7:30 – 10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-12: 12:30 – 3: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ticle to deepen your understanding about “Backward Desig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review and Review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light the learning targets in your les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 the three components in a learning obj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id your students do with this lesson? How do you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 coach (Choose to do either or both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ain why the learning objective was clear to your students and how it helped them lear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e to make it even more clear to enhance learn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Objectives of Today</a:t>
            </a: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s PL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6761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onnect 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research to curriculum desig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Recognize</a:t>
            </a: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 how the curriculum tool enhances lesson plan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dentify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EDI components and learning targets from a model less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rite </a:t>
            </a:r>
            <a:r>
              <a:rPr b="0" lang="en-US" sz="3600" spc="-1" strike="noStrike">
                <a:solidFill>
                  <a:srgbClr val="008040"/>
                </a:solidFill>
                <a:latin typeface="Constantia"/>
              </a:rPr>
              <a:t>clear learning targets and expanded  skill statements </a:t>
            </a:r>
            <a:r>
              <a:rPr b="0" lang="en-US" sz="3600" spc="-1" strike="noStrike">
                <a:solidFill>
                  <a:srgbClr val="00349e"/>
                </a:solidFill>
                <a:latin typeface="Constantia"/>
              </a:rPr>
              <a:t>in lesson units and pla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380880" y="304920"/>
            <a:ext cx="297180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dentify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5638680" y="2819520"/>
            <a:ext cx="3124440" cy="2590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lan Learning Experiences &amp;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971800" y="1676520"/>
            <a:ext cx="2971800" cy="2514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cceptabl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Rectangle 8" descr=""/>
          <p:cNvPicPr/>
          <p:nvPr/>
        </p:nvPicPr>
        <p:blipFill>
          <a:blip r:embed="rId1"/>
          <a:stretch/>
        </p:blipFill>
        <p:spPr>
          <a:xfrm>
            <a:off x="-304920" y="5181480"/>
            <a:ext cx="9839520" cy="1468440"/>
          </a:xfrm>
          <a:prstGeom prst="rect">
            <a:avLst/>
          </a:prstGeom>
          <a:ln w="0">
            <a:noFill/>
          </a:ln>
        </p:spPr>
      </p:pic>
      <p:sp>
        <p:nvSpPr>
          <p:cNvPr id="214" name="Curved Down Arrow 12"/>
          <p:cNvSpPr/>
          <p:nvPr/>
        </p:nvSpPr>
        <p:spPr>
          <a:xfrm>
            <a:off x="3505320" y="91440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urved Down Arrow 13"/>
          <p:cNvSpPr/>
          <p:nvPr/>
        </p:nvSpPr>
        <p:spPr>
          <a:xfrm>
            <a:off x="5943600" y="1981080"/>
            <a:ext cx="1066680" cy="533520"/>
          </a:xfrm>
          <a:custGeom>
            <a:avLst/>
            <a:gdLst>
              <a:gd name="textAreaLeft" fmla="*/ 216720 w 1066680"/>
              <a:gd name="textAreaRight" fmla="*/ 78336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Begin With the End in Mind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reating Clear Learning Targe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highlight key 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/B Partners - Partner A summarizes and B adds; reverse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to Line of Learning - How do clear learning targets relate to the concept of Backward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Not by default, but by design…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aptured in the map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to teachers’ curriculum m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ine of Learning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the clear learning target connect to teachers’ unit/lesson desig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other decisions were made during the designing proces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ing Ying Chen</dc:creator>
  <dc:description/>
  <dc:language>en-US</dc:language>
  <cp:lastModifiedBy>kthorpe</cp:lastModifiedBy>
  <dcterms:modified xsi:type="dcterms:W3CDTF">2009-10-18T23:39:42Z</dcterms:modified>
  <cp:revision>92</cp:revision>
  <dc:subject/>
  <dc:title>An Overview/Review of the Explicit Direct Instruction Model</dc:title>
</cp:coreProperties>
</file>